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04C-66DE-4C90-B5C9-A32C9357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E15-F975-422A-B0E2-F50C55CD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EA6-9AAF-4D98-ACDB-040BE1C6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F73-CC2D-4E48-BC7B-EB57FBB8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009-18AE-4A45-9515-CFC25F41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E1B-5877-4ED1-B8A4-5B6E8AEF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F38-BEC8-4760-AFF8-6952BCF8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00C-9B68-4830-AF44-BF694783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358-2FDF-4BEE-82CD-307F5A7F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B45-DE51-4259-9F98-CEE5BD2E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D9A-5652-495D-9C4E-BA318A17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F79-618C-46BD-8A83-71B86E3A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09E-240B-4B6E-93BB-479BB8A89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VATAREA PRIN PROIEC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797360"/>
            <a:ext cx="2521080" cy="1368360"/>
          </a:xfrm>
          <a:prstGeom prst="ellipse">
            <a:avLst/>
          </a:prstGeom>
          <a:solidFill>
            <a:srgbClr val="5cee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a la model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al inva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5446800"/>
            <a:ext cx="2663640" cy="1411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loc de dezvol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etente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lului X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1989000"/>
            <a:ext cx="2665440" cy="1368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r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2560" y="4408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V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2708280"/>
            <a:ext cx="79236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92360" y="2708280"/>
            <a:ext cx="93492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4724280"/>
            <a:ext cx="935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5292360" y="4724280"/>
            <a:ext cx="1079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4869000"/>
            <a:ext cx="24494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 investiga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007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9000"/>
            <a:ext cx="266544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era situa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e de v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6920" y="90792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acteristicile proiect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3284640"/>
            <a:ext cx="1944360" cy="14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80000" y="3500280"/>
            <a:ext cx="128556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IEC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VATAREA PRIN PROIEC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46560" y="3327480"/>
            <a:ext cx="201924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2895480"/>
            <a:ext cx="2305080" cy="1368720"/>
          </a:xfrm>
          <a:prstGeom prst="ellipse">
            <a:avLst/>
          </a:prstGeom>
          <a:solidFill>
            <a:srgbClr val="dee0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oseste strate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e de instr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2560" y="5127480"/>
            <a:ext cx="230508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 teh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52560"/>
            <a:ext cx="2305080" cy="1368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opera si a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2920" y="5127480"/>
            <a:ext cx="2665440" cy="1368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 la lu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zi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euna cu profeso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414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V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8920" y="3543480"/>
            <a:ext cx="7207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62560" y="3616200"/>
            <a:ext cx="9381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3280" y="4768560"/>
            <a:ext cx="503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62560" y="4768920"/>
            <a:ext cx="6494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4920" y="5560920"/>
            <a:ext cx="2305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zvolta compe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comun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98920" y="47689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1671480"/>
            <a:ext cx="266544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esta creativi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urioz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ectu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4560" y="29685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20" y="100008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neficiile invatarii prin proi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07120" y="6491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f. Nicola A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55:06Z</dcterms:created>
  <dc:creator>Aura Nicola</dc:creator>
  <dc:description/>
  <dc:language>en-US</dc:language>
  <cp:lastModifiedBy>Aura Nicola</cp:lastModifiedBy>
  <dcterms:modified xsi:type="dcterms:W3CDTF">2011-04-08T04:40:07Z</dcterms:modified>
  <cp:revision>15</cp:revision>
  <dc:subject/>
  <dc:title>Slide 1</dc:title>
</cp:coreProperties>
</file>